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4383-E2CD-447C-BE1A-3787A8434AB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1C39-3B6C-4EBC-9E95-95E02F0A8D2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6BCF-0369-43FD-83A2-A354DE62727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3F0D-D45F-444E-8C5D-BB672C77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252-DBBB-4956-8226-EAF5A406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5D4B-DFC1-4F21-B8C6-6F3946F1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328-879A-43B0-89AA-8C9F4CE6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30C5-BAEE-4079-987B-95F7FA3B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0885-7673-4E9D-8067-AFD83DC4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73AE-C615-42A8-A35B-3EB6BDE1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B3DB-30F4-4DAA-8CE2-186522C1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25C2-BDD5-48B7-B211-158F6354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29FF-4983-4A74-98E9-C6156CBF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C70F-F4A6-4FFB-BBD6-07985AE8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75F2-CEDE-40D2-A5BC-6E11E298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F5D0-5C51-46CA-A57E-C7822DE6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18D4-51FE-4A29-A382-3FFE8445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EFF7-C9B2-46FC-A1C2-AF6AA661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1ED9-D1DE-48AD-9DFB-4B7EFD26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78CF-4CBB-4DB4-BEB0-BA343070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A1BB6-AC8C-4D3E-B44C-76189138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A69BC-00ED-414F-B6C9-7C5E54C5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AD59E-1ACA-4011-8F0B-FFBB057C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E8C08-64A7-47E9-9F32-6CFDAACF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5E46B-7B4C-407C-9220-1C74246D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20D-B9F8-4BF9-9BCB-73C57F83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9C5C-6C4C-42A0-A3E7-1E237CB7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82FE4-9FFF-4BC5-AAF8-65BF19F9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D68C4-1DAB-41ED-B75C-9A674BCC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98FC2-6435-474F-B676-0A8A4A41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EB5FD-7DC3-42A7-AD2D-DADBD320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18539-3BDE-4DCA-B81B-9D7EAEBD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1E1B2-CD94-43E3-BC4D-6DB43E0A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6E1E1-C348-46D5-BC9A-9EDCD1D4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1BBC5-3413-484D-9A3C-F376CC6B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DFC37-AB5A-42A8-8FC3-0A2AF26B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079-B594-45F5-92B5-71EE405C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66964-26FF-4D14-BFE8-FE4513ED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6C2CB-FECA-43A4-81C6-8B3707A3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3B03B-41FC-499B-AD15-46D0ACF3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9FEDA-5A86-4663-A86E-6C87AF8C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2E409-4189-44A5-A4C5-D786DC5A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2DFFE-5AFC-44BE-9C16-1F77C936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6CF9E-6ED2-493E-99C5-F906EF68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00253-C41A-4E27-AFC0-E9C13749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DEA54-D6DD-432A-B7AA-4FD2DB20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34EF4-E101-4089-8EDB-6D779522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328-73E3-4112-98D6-2F6C0855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7D97E-71C1-4577-A6B5-18A87805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FB66F-9E7F-450E-A947-6966E5ED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62D37-9991-4EA1-A403-CAF66BD2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8C40A-0850-4657-8CF8-1E0C48D6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EE27B-32B8-4AEA-9F1C-8C8C3BFE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198F4-2E04-4E4B-ABA9-79D9EDEB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24CC2-81A3-4E74-BDC4-C2B5D8FA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1A67E-81A5-4E77-BD3B-2EAED0B3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E3349-AF02-4D2A-BF1C-16C21DA0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59C29-6DD7-4A26-A2EA-2BEDE79B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B30-7B9B-4700-8454-B01571F6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1BAA3-7E8A-48A8-A415-D003485A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12AF5-F94C-41B2-84FB-EBF182F2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1347A-B344-4793-9C3D-B117A2E5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06344-FB68-459F-89B7-757B2877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E4506-FC88-4962-84C1-24BA1921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B181F-149E-4351-AFAE-DE4EF52E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6D0F0-0544-4C1D-AE64-DBC6D16F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39357-AC4B-440B-8AF3-EB2D8E78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069B1-FE01-4201-B41E-32051984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8F324-572F-42BC-BBB8-B0207598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DF1-2892-4049-9C19-97088CA5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A3CFF-9455-42DE-BEDD-5E3DE0BF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EAE22-6BCF-455E-A3EB-F8B08F00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1F6EB-FBA0-4AED-9B88-D6C4682D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6B6D-9568-48FD-B25A-B17D8AA2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6B6-6BA7-4873-AAD4-45F0140F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CBF6-96F1-4973-8188-B445A27B719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258C-F725-4502-81D6-38CEB2C74A4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83D7-B98F-4027-B960-E81D8763004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0B57-450B-4BD6-83A0-0313C4003E72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AC92-40FB-4F7E-88EC-2418AB3F59A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5C0E-C2F1-4723-A4AD-78550B93EEF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9616-4B09-4903-BDD1-C3C9B1D393C2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B044-965E-4738-AB93-7AA0D4B5F9E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8ACE-C7D7-47BF-AB57-B50DCE96558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3CB1-D451-410E-8823-9B4D7E8C9BC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F7E5-9AF6-4202-AD0A-61651C4D8AA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9BCA-7624-4322-B2CB-4ADE1C0A49A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Mai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unh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72960" y="1268280"/>
            <a:ext cx="11484000" cy="52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Mai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41280" y="1484280"/>
            <a:ext cx="1151568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152216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Maio (2016 e 2017) – Em R$ milhões de Mai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285840" y="1413000"/>
            <a:ext cx="1157112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Mai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34800" y="1270080"/>
            <a:ext cx="108014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Maio (2016 e 2017) – Em R$ milhões de Mai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06360" y="1333440"/>
            <a:ext cx="1082988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Mai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473120"/>
            <a:ext cx="108014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Mai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52440" y="1341360"/>
            <a:ext cx="107838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06-27T21:55:03Z</dcterms:modified>
  <cp:revision>415</cp:revision>
  <dc:subject/>
  <dc:title>Demografia</dc:title>
</cp:coreProperties>
</file>